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007-6415-4207-BB56-6DAF46EE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175-F16A-473E-A200-484DF1A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A0B-BB1D-414F-BCE2-24A667EB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4B9-6633-477D-BB1F-0CDED5DB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28E-C374-4CFA-AD06-E851619C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D34C-FBF3-4B9A-B946-1170468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60AC-0850-4449-AF68-578994F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7265-D773-4905-876B-AB4D656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B6FF-6F2B-445B-9DDD-E4447D6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DE93-7AC1-4D57-AB4F-A037F1F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DBEA-481D-42D5-894D-72990689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394-E8B8-4D9C-85D5-F05C4D84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280-78DE-4679-9985-05FFB06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C5C-BEB0-4FAE-A1B8-5FB5108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993D-BD6C-4064-9F1F-B2D412E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B0BA-F3FD-4CAF-96EB-618BB73E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BC1C-DCF1-4AEF-99F3-717469DA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2A7-E4AF-477C-96A2-761A013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07D-D465-4716-83B3-F2A66852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039-C0A2-4146-A3A5-C6FF123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09F-801C-4291-8056-395AD01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9CB-2A64-4C13-9EC1-2B9D616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761-5BE0-45D2-A165-55E21FF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BE5-C58E-4BFB-A550-5D1D93F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925-68D7-4766-9B77-3CE36344B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BE21-FAC3-4650-A3E4-5F71FCC22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90920" y="2362320"/>
            <a:ext cx="3952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ur Senses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Century Gothic"/>
              </a:rPr>
              <a:t>What is the color of nois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like the anger of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ainbow of happ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pphire of never ending w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ck and white like a music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ack like a starless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Question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color of noi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taste of sil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es green sme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taste of rap music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touch summer, how would it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hear flowers blooming, what what sound would they ma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smell a tear, what odor would it ha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could see happiness, what color would it b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4:29:52Z</dcterms:created>
  <dc:creator>jleff</dc:creator>
  <dc:description/>
  <dc:language>en-US</dc:language>
  <cp:lastModifiedBy> </cp:lastModifiedBy>
  <dcterms:modified xsi:type="dcterms:W3CDTF">2008-10-13T20:48:17Z</dcterms:modified>
  <cp:revision>4</cp:revision>
  <dc:subject/>
  <dc:title>Slide 1</dc:title>
</cp:coreProperties>
</file>